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wmf" ContentType="image/x-wmf"/>
  <Override PartName="/ppt/media/image28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7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9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13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7300" spc="-1" strike="noStrike" u="sng">
                <a:solidFill>
                  <a:srgbClr val="c00000"/>
                </a:solidFill>
                <a:uFillTx/>
                <a:latin typeface="Cambria"/>
              </a:rPr>
              <a:t>Click to move the slide</a:t>
            </a: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9"/>
          </p:nvPr>
        </p:nvSpPr>
        <p:spPr>
          <a:xfrm>
            <a:off x="427788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A58C0-499E-4F2C-84CB-3BA3BBE8FA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231E9-FC26-456C-B3C1-593EF0E401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2F2CB-4385-40A3-8202-20B7DF2DF3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8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20103-3FC1-4F78-BDFC-0A9E4F09F1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6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A3778-E6A3-4B54-A977-F5D53F9A3A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42920" y="949320"/>
            <a:ext cx="6248520" cy="4687920"/>
          </a:xfrm>
          <a:prstGeom prst="rect">
            <a:avLst/>
          </a:prstGeom>
          <a:ln w="0">
            <a:noFill/>
          </a:ln>
        </p:spPr>
      </p:sp>
      <p:sp>
        <p:nvSpPr>
          <p:cNvPr id="368" name="Text Box 2"/>
          <p:cNvSpPr/>
          <p:nvPr/>
        </p:nvSpPr>
        <p:spPr>
          <a:xfrm>
            <a:off x="833400" y="5938920"/>
            <a:ext cx="666756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F8B1D-81AE-42E4-A609-52B574C6FC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71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E80AC-6EA9-4D27-BAA9-2E98D569E2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74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90551-E51A-4562-A82E-C23F831C49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77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31548-AB68-449F-96FF-F22E05DD41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0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04410-3D95-4A66-80B3-0C6B777B26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383" name="Text Box 2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B4A26-B7CC-47AA-A7AF-B271036A2B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09352-F1B4-4902-A4C1-6D0FB7D4BC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981CA-D5CF-4FD3-8C2A-E558031751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92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85D36-15CC-4CEC-812A-354389CEBA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4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F81D4-B66D-4006-A950-D0B3D32800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95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56296-8A98-4EF3-8E70-CC2EAFA7AD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8D686-EC94-47C2-8F31-2E6BE89E20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9" name="Text Box 3"/>
          <p:cNvSpPr/>
          <p:nvPr/>
        </p:nvSpPr>
        <p:spPr>
          <a:xfrm>
            <a:off x="75564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91EC7-46B9-4EAD-8C36-2D35979C5F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02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75FC0-6167-49D6-80D8-5AFCBD4FC9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40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5CC6A-088A-40DE-ADD9-DAE4ED988B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08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2BB75-47C5-4B53-8CB3-A5032AB064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42920" y="949320"/>
            <a:ext cx="6248520" cy="4687920"/>
          </a:xfrm>
          <a:prstGeom prst="rect">
            <a:avLst/>
          </a:prstGeom>
          <a:ln w="0">
            <a:noFill/>
          </a:ln>
        </p:spPr>
      </p:sp>
      <p:sp>
        <p:nvSpPr>
          <p:cNvPr id="411" name="Text Box 2"/>
          <p:cNvSpPr/>
          <p:nvPr/>
        </p:nvSpPr>
        <p:spPr>
          <a:xfrm>
            <a:off x="833400" y="5938920"/>
            <a:ext cx="666756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C5481-190C-41FB-8F47-D10D824F30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14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ED0AC-0B0E-403A-ADDF-7E8A0B022F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4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19D88-3A90-4027-A7D1-0195182039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4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E7E6B-61BF-459C-A4F9-F38AE6DE82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DCAE9-268F-485C-871E-8A6CBFABA4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FF4BB-8771-416E-9BEF-ACA61F6005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A03C8-8F98-434E-B7C6-6F4955948F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5403D-B0C4-4174-A219-8A6BA838ED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6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CA47-01E3-4278-9446-02D196E35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73AB-E4FC-48BC-BEEB-51EFE114F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C0C9-6B24-4B37-88EF-88D9DCEA9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C465-DCC1-4FB7-92FE-6F53AA43E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0EE-AA3C-415E-A50A-8545A44998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BC0-DD83-42DC-8DDB-8F235A5D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DE76-6A23-4069-9EAD-BA13EF97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56A-034D-43E7-B0D6-D2CB3D25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730-531C-4A5A-BB7F-B411992C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898-87A3-4B6C-B55D-9A3431D8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A1F-B9A8-489B-9866-73C7A99F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1D63-01FB-4CBE-BBD2-344FADCD7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4F5-2D7D-4062-A4EF-5C3003F3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34D-0CC8-4DAB-B811-308B2171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77F-3A63-4B81-8227-6628C701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79F-D95C-4638-BE78-B6739637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110-3E3B-4A97-93EE-59D3470C12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945D8-D919-451A-AE06-10297BEE91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2DA7E-105E-467F-9103-C55313C9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2122A-8529-44DB-9907-11726F8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8D9E6-B3E4-490B-A988-4CF46721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3C147-7AB6-499F-BC02-237D4846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60FE-DC91-41D1-9200-71E6706773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B42CE-EF9D-436B-867E-9188CC6A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43567-4B01-4558-BEF3-30B79B9E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48D34-4D1C-440A-979D-D59261CC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F7A97-86AE-48FE-A841-48E96E72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CD0BF-5644-4774-BF95-0672BE0A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D8B35-EE14-4162-83C4-394FEBCE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BBD55-7A34-4342-B9AA-0AE08DDEC4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20314-28E4-4EE6-AC3B-A4C264E1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5B4FF-3E2D-4779-879A-8B153D0D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DD937-999C-46BD-83F8-D687C288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0894-8E00-4457-9914-10299BFC66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ED633-7249-4298-A3C2-CA8231D0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0A107-6EFF-4F17-BCD1-7E539218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BB4BD-1915-4C7F-A058-CDB75623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7F505-23E2-470B-A2DA-CE06E6D0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F8F08-A815-4EDF-A8B6-2FEFE59F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37615-2BC5-451C-9282-76AC5A5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F0102-9EA9-4B31-A9E6-1C7ED888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499F0-F308-41B3-951A-8A24C708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8ACBD-EDEC-4601-B684-EEF207CD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4107-D015-4E7E-BFD9-49BC6552D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498A-BA34-490F-A3E3-F96555297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E264-8CE8-4117-86FD-0F3432954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0229-57FA-48C3-BDF6-9BE91799D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731E-8831-49EB-BBE6-52AD229F8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7300" spc="-1" strike="noStrike" u="sng">
                <a:solidFill>
                  <a:srgbClr val="c00000"/>
                </a:solidFill>
                <a:uFillTx/>
                <a:latin typeface="Cambria"/>
              </a:rPr>
              <a:t>Click to edit the title text format</a:t>
            </a: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A4C5A-98CF-4159-80A2-26CD30C83CD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1574640" cy="157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2"/>
          </p:nvPr>
        </p:nvSpPr>
        <p:spPr>
          <a:xfrm>
            <a:off x="503280" y="7007400"/>
            <a:ext cx="234792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6446E-FB1A-4663-8B24-32D22184B605}" type="datetime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8503920" y="7322760"/>
            <a:ext cx="106668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800" spc="-1" strike="noStrike">
                <a:solidFill>
                  <a:srgbClr val="bfbfb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5F3D1A08-8D10-4CDF-B147-1AB1F7620FA2}" type="slidenum">
              <a:rPr b="0" lang="ru-RU" sz="800" spc="-1" strike="noStrike">
                <a:solidFill>
                  <a:srgbClr val="bfbfbf"/>
                </a:solidFill>
                <a:latin typeface="Calibri"/>
                <a:ea typeface="Segoe U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-9360" y="-7920"/>
            <a:ext cx="10101240" cy="1147680"/>
          </a:xfrm>
          <a:custGeom>
            <a:avLst/>
            <a:gdLst>
              <a:gd name="textAreaLeft" fmla="*/ 0 w 10101240"/>
              <a:gd name="textAreaRight" fmla="*/ 10101600 w 10101240"/>
              <a:gd name="textAreaTop" fmla="*/ 0 h 1147680"/>
              <a:gd name="textAreaBottom" fmla="*/ 1147680 h 1147680"/>
            </a:gdLst>
            <a:ahLst/>
            <a:rect l="textAreaLeft" t="textAreaTop" r="textAreaRight" b="textAreaBottom"/>
            <a:pathLst>
              <a:path w="10101263" h="1147763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7058"/>
                </a:srgbClr>
              </a:gs>
              <a:gs pos="100000">
                <a:srgbClr val="00c4cd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48290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5249863" h="703263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>
                  <a:alpha val="32156"/>
                </a:srgbClr>
              </a:gs>
              <a:gs pos="100000">
                <a:srgbClr val="008abf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-93600" y="-545760"/>
            <a:ext cx="10246680" cy="2250000"/>
            <a:chOff x="-93600" y="-545760"/>
            <a:chExt cx="10246680" cy="2250000"/>
          </a:xfrm>
        </p:grpSpPr>
        <p:sp>
          <p:nvSpPr>
            <p:cNvPr id="86" name="AutoShape 4"/>
            <p:cNvSpPr/>
            <p:nvPr/>
          </p:nvSpPr>
          <p:spPr>
            <a:xfrm rot="21420000">
              <a:off x="-55440" y="-280800"/>
              <a:ext cx="10162800" cy="1720800"/>
            </a:xfrm>
            <a:custGeom>
              <a:avLst/>
              <a:gdLst>
                <a:gd name="textAreaLeft" fmla="*/ 0 w 10162800"/>
                <a:gd name="textAreaRight" fmla="*/ 10162800 w 1016280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6374" h="752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AutoShape 5"/>
            <p:cNvSpPr/>
            <p:nvPr/>
          </p:nvSpPr>
          <p:spPr>
            <a:xfrm rot="21420000">
              <a:off x="-51840" y="-83880"/>
              <a:ext cx="10175400" cy="1404360"/>
            </a:xfrm>
            <a:custGeom>
              <a:avLst/>
              <a:gdLst>
                <a:gd name="textAreaLeft" fmla="*/ 0 w 10175400"/>
                <a:gd name="textAreaRight" fmla="*/ 10175760 w 10175400"/>
                <a:gd name="textAreaTop" fmla="*/ 0 h 1404360"/>
                <a:gd name="textAreaBottom" fmla="*/ 1404720 h 1404360"/>
              </a:gdLst>
              <a:ahLst/>
              <a:rect l="textAreaLeft" t="textAreaTop" r="textAreaRight" b="textAreaBottom"/>
              <a:pathLst>
                <a:path w="6382" h="61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67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2133720"/>
            <a:ext cx="9067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503280" y="7007400"/>
            <a:ext cx="234792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245B7-4F28-4408-8309-17795B15AB1F}" type="datetime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940120" y="7007400"/>
            <a:ext cx="369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8736120" y="7007400"/>
            <a:ext cx="83664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F54F7AF-9F47-4B03-B7D2-4D5AF8C13FCD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1"/>
          <p:cNvSpPr/>
          <p:nvPr/>
        </p:nvSpPr>
        <p:spPr>
          <a:xfrm>
            <a:off x="-9360" y="-7920"/>
            <a:ext cx="10099440" cy="1147680"/>
          </a:xfrm>
          <a:custGeom>
            <a:avLst/>
            <a:gdLst>
              <a:gd name="textAreaLeft" fmla="*/ 0 w 10099440"/>
              <a:gd name="textAreaRight" fmla="*/ 10099800 w 10099440"/>
              <a:gd name="textAreaTop" fmla="*/ 0 h 1147680"/>
              <a:gd name="textAreaBottom" fmla="*/ 1147680 h 1147680"/>
            </a:gdLst>
            <a:ahLst/>
            <a:rect l="textAreaLeft" t="textAreaTop" r="textAreaRight" b="textAreaBottom"/>
            <a:pathLst>
              <a:path w="10099675" h="1147763">
                <a:moveTo>
                  <a:pt x="0" y="0"/>
                </a:moveTo>
                <a:lnTo>
                  <a:pt x="28057" y="0"/>
                </a:lnTo>
                <a:lnTo>
                  <a:pt x="28057" y="3188"/>
                </a:lnTo>
                <a:lnTo>
                  <a:pt x="0" y="31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48290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5249863" h="703263">
                <a:moveTo>
                  <a:pt x="0" y="0"/>
                </a:moveTo>
                <a:lnTo>
                  <a:pt x="14582" y="0"/>
                </a:lnTo>
                <a:lnTo>
                  <a:pt x="14582" y="1953"/>
                </a:lnTo>
                <a:lnTo>
                  <a:pt x="0" y="195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21420000">
            <a:off x="-20520" y="223560"/>
            <a:ext cx="10099440" cy="714240"/>
          </a:xfrm>
          <a:custGeom>
            <a:avLst/>
            <a:gdLst>
              <a:gd name="textAreaLeft" fmla="*/ 0 w 10099440"/>
              <a:gd name="textAreaRight" fmla="*/ 10099800 w 100994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0099676" h="714375">
                <a:moveTo>
                  <a:pt x="0" y="0"/>
                </a:moveTo>
                <a:lnTo>
                  <a:pt x="28057" y="0"/>
                </a:lnTo>
                <a:lnTo>
                  <a:pt x="28057" y="1986"/>
                </a:lnTo>
                <a:lnTo>
                  <a:pt x="0" y="1986"/>
                </a:lnTo>
                <a:lnTo>
                  <a:pt x="0" y="0"/>
                </a:lnTo>
                <a:close/>
              </a:path>
            </a:pathLst>
          </a:custGeom>
          <a:noFill/>
          <a:ln w="10800">
            <a:solidFill>
              <a:srgbClr val="008a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 rot="21420000">
            <a:off x="-15480" y="304560"/>
            <a:ext cx="10113840" cy="583920"/>
          </a:xfrm>
          <a:custGeom>
            <a:avLst/>
            <a:gdLst>
              <a:gd name="textAreaLeft" fmla="*/ 0 w 10113840"/>
              <a:gd name="textAreaRight" fmla="*/ 10114200 w 1011384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10113963" h="584200">
                <a:moveTo>
                  <a:pt x="0" y="0"/>
                </a:moveTo>
                <a:lnTo>
                  <a:pt x="28096" y="0"/>
                </a:lnTo>
                <a:lnTo>
                  <a:pt x="28096" y="1623"/>
                </a:lnTo>
                <a:lnTo>
                  <a:pt x="0" y="1623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7"/>
          </p:nvPr>
        </p:nvSpPr>
        <p:spPr>
          <a:xfrm>
            <a:off x="3446280" y="688644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8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CE2CC-DA23-4E8B-9606-11C0B4A130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682560" y="279360"/>
            <a:ext cx="90709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Cambria"/>
              </a:rPr>
              <a:t>Русский язы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4500000" y="1779480"/>
            <a:ext cx="21726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entury"/>
              </a:rPr>
              <a:t>1 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573200" y="3090960"/>
            <a:ext cx="696744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F108E-CE7A-4894-A750-9A9B8DFD53C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AD44E-85F4-47E1-9881-F700EAF0BB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992160" y="1160640"/>
            <a:ext cx="8399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736120" y="7007400"/>
            <a:ext cx="8395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664A6-EACF-4CCA-ADAF-800855740980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rcRect l="0" t="0" r="0" b="28537"/>
          <a:stretch/>
        </p:blipFill>
        <p:spPr>
          <a:xfrm>
            <a:off x="1833480" y="272880"/>
            <a:ext cx="6734160" cy="6710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503280" y="611280"/>
            <a:ext cx="90694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300"/>
            </a:br>
            <a:br>
              <a:rPr sz="7300"/>
            </a:br>
            <a:endParaRPr b="0" lang="en-US" sz="7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Cambria"/>
              </a:rPr>
              <a:t>План работы: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1008000" y="2808360"/>
            <a:ext cx="87854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Что такое ударение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 Какую роль выполняет ударение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В каких словах ставится       удар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1655640" y="63360"/>
            <a:ext cx="624204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755640" y="824040"/>
            <a:ext cx="85694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12720" y="2494080"/>
            <a:ext cx="70567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"/>
              </a:rPr>
              <a:t>Ударение- это выделение голосом одного из слогов в слов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503280" y="755640"/>
            <a:ext cx="90694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mbria"/>
              </a:rPr>
              <a:t>Что такое ударение? </a:t>
            </a:r>
            <a:br>
              <a:rPr sz="4000"/>
            </a:b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mbria"/>
              </a:rPr>
              <a:t>Произнесите слова, выделяя удар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539640" y="1779480"/>
            <a:ext cx="152244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3"/>
          <a:srcRect l="0" t="10630" r="0" b="14372"/>
          <a:stretch/>
        </p:blipFill>
        <p:spPr>
          <a:xfrm>
            <a:off x="7683480" y="4208400"/>
            <a:ext cx="2198880" cy="1720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4"/>
          <a:srcRect l="0" t="0" r="23560" b="0"/>
          <a:stretch/>
        </p:blipFill>
        <p:spPr>
          <a:xfrm>
            <a:off x="2468520" y="3565440"/>
            <a:ext cx="1774800" cy="3238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5"/>
          <a:stretch/>
        </p:blipFill>
        <p:spPr>
          <a:xfrm>
            <a:off x="4821120" y="4773600"/>
            <a:ext cx="2646360" cy="1992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6"/>
          <a:stretch/>
        </p:blipFill>
        <p:spPr>
          <a:xfrm>
            <a:off x="7540560" y="1922400"/>
            <a:ext cx="1617840" cy="1381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7"/>
          <a:stretch/>
        </p:blipFill>
        <p:spPr>
          <a:xfrm>
            <a:off x="4608360" y="2195640"/>
            <a:ext cx="238464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755640" y="-558720"/>
            <a:ext cx="856944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368360" y="1547640"/>
            <a:ext cx="705636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ногда ударение меняет значение слова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убы (танцевальные)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убы (пара,дыма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 flipV="1">
            <a:off x="3311640" y="2766960"/>
            <a:ext cx="131760" cy="22248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 flipV="1">
            <a:off x="3887640" y="3559320"/>
            <a:ext cx="136800" cy="22536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2"/>
          <a:stretch/>
        </p:blipFill>
        <p:spPr>
          <a:xfrm>
            <a:off x="2612880" y="720720"/>
            <a:ext cx="401004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503280" y="1763640"/>
            <a:ext cx="82328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787320" y="708120"/>
            <a:ext cx="8032680" cy="56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673200" y="922320"/>
            <a:ext cx="8037360" cy="5434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3"/>
          <a:srcRect l="0" t="96947" r="94066" b="0"/>
          <a:stretch/>
        </p:blipFill>
        <p:spPr>
          <a:xfrm>
            <a:off x="708120" y="6378480"/>
            <a:ext cx="2016000" cy="7034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4"/>
          <a:srcRect l="50332" t="0" r="0" b="0"/>
          <a:stretch/>
        </p:blipFill>
        <p:spPr>
          <a:xfrm>
            <a:off x="4646520" y="1181160"/>
            <a:ext cx="3946680" cy="5371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5"/>
          <a:srcRect l="93592" t="96947" r="0" b="0"/>
          <a:stretch/>
        </p:blipFill>
        <p:spPr>
          <a:xfrm>
            <a:off x="6615000" y="6378480"/>
            <a:ext cx="1968480" cy="6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503280" y="1763640"/>
            <a:ext cx="82328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2"/>
          <a:srcRect l="0" t="0" r="49935" b="0"/>
          <a:stretch/>
        </p:blipFill>
        <p:spPr>
          <a:xfrm>
            <a:off x="314280" y="787320"/>
            <a:ext cx="4332240" cy="5748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rcRect l="50069" t="0" r="0" b="0"/>
          <a:stretch/>
        </p:blipFill>
        <p:spPr>
          <a:xfrm>
            <a:off x="4646520" y="787320"/>
            <a:ext cx="4321440" cy="5748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rcRect l="1486" t="95966" r="93508" b="978"/>
          <a:stretch/>
        </p:blipFill>
        <p:spPr>
          <a:xfrm>
            <a:off x="314280" y="6299280"/>
            <a:ext cx="1739880" cy="709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rcRect l="92949" t="95966" r="1581" b="978"/>
          <a:stretch/>
        </p:blipFill>
        <p:spPr>
          <a:xfrm>
            <a:off x="7245360" y="6378480"/>
            <a:ext cx="1689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FF2A3-5B8C-4C71-9A5E-194E5F61CFA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A31D5-1C7D-4089-95A4-F0E3BBAA0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2"/>
          <a:srcRect l="7478" t="3490" r="5902" b="3490"/>
          <a:stretch/>
        </p:blipFill>
        <p:spPr>
          <a:xfrm>
            <a:off x="754200" y="604800"/>
            <a:ext cx="8731080" cy="634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03280" y="1763640"/>
            <a:ext cx="82328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2"/>
          <a:srcRect l="0" t="0" r="50536" b="0"/>
          <a:stretch/>
        </p:blipFill>
        <p:spPr>
          <a:xfrm>
            <a:off x="314280" y="944640"/>
            <a:ext cx="4253040" cy="582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3"/>
          <a:srcRect l="49721" t="0" r="0" b="0"/>
          <a:stretch/>
        </p:blipFill>
        <p:spPr>
          <a:xfrm>
            <a:off x="4567320" y="826920"/>
            <a:ext cx="4410000" cy="5945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"/>
          <p:cNvPicPr/>
          <p:nvPr/>
        </p:nvPicPr>
        <p:blipFill>
          <a:blip r:embed="rId4"/>
          <a:srcRect l="935" t="95339" r="93851" b="963"/>
          <a:stretch/>
        </p:blipFill>
        <p:spPr>
          <a:xfrm>
            <a:off x="236520" y="6458040"/>
            <a:ext cx="1338120" cy="644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"/>
          <p:cNvPicPr/>
          <p:nvPr/>
        </p:nvPicPr>
        <p:blipFill>
          <a:blip r:embed="rId5"/>
          <a:srcRect l="93103" t="95339" r="1588" b="0"/>
          <a:stretch/>
        </p:blipFill>
        <p:spPr>
          <a:xfrm>
            <a:off x="7718400" y="6535800"/>
            <a:ext cx="110160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503280" y="324000"/>
            <a:ext cx="90709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mbria"/>
              </a:rPr>
              <a:t>В каких словах ставится       ударение 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mbria"/>
              </a:rPr>
              <a:t>В каждом слове спряталось животное, насекомое или птица. Найди их и напиши эти сл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503280" y="2771640"/>
            <a:ext cx="907092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елевизор, коньки, листок, мужчина, ракита, чертёж, стриж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1224000" y="3419640"/>
            <a:ext cx="86364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 flipV="1">
            <a:off x="3600360" y="3414600"/>
            <a:ext cx="1224000" cy="2088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5761080" y="3419640"/>
            <a:ext cx="85716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6"/>
          <p:cNvSpPr/>
          <p:nvPr/>
        </p:nvSpPr>
        <p:spPr>
          <a:xfrm flipV="1">
            <a:off x="1295280" y="4135320"/>
            <a:ext cx="687600" cy="1440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>
            <a:off x="3456000" y="4140360"/>
            <a:ext cx="100008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6696000" y="4140360"/>
            <a:ext cx="64764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863640" y="4788000"/>
            <a:ext cx="144000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039680" y="2136600"/>
            <a:ext cx="853308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Знак ударения не ставится над            словом из одного слога и над   буквой ё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0BCD1-5599-465C-9F38-6E9250937B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4568F-2344-4817-8D05-2C00FFB18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992160" y="1160640"/>
            <a:ext cx="8399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лнце село за сел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м ужасно повезл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в гости к Ударению сходи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все его секреты мы раскры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 </a:t>
            </a:r>
            <a:r>
              <a:rPr b="1" lang="ru-RU" sz="3600" spc="-1" strike="noStrike">
                <a:solidFill>
                  <a:srgbClr val="ff1a1a"/>
                </a:solidFill>
                <a:latin typeface="Calibri"/>
              </a:rPr>
              <a:t>Ударени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,  конечно, «мОлодец»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 каждый из нас «молодЕц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7416720" y="1619280"/>
            <a:ext cx="1811520" cy="19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rcRect l="2776" t="3701" r="3701" b="7407"/>
          <a:stretch/>
        </p:blipFill>
        <p:spPr>
          <a:xfrm>
            <a:off x="1468440" y="1557360"/>
            <a:ext cx="8334360" cy="55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503280" y="708120"/>
            <a:ext cx="9069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 u="sng">
                <a:solidFill>
                  <a:srgbClr val="c00000"/>
                </a:solidFill>
                <a:uFillTx/>
                <a:latin typeface="Cambria"/>
              </a:rPr>
              <a:t>Молодцы! </a:t>
            </a:r>
            <a:br>
              <a:rPr sz="6000"/>
            </a:br>
            <a:br>
              <a:rPr sz="6000"/>
            </a:br>
            <a:r>
              <a:rPr b="1" i="1" lang="ru-RU" sz="6000" spc="-1" strike="noStrike" u="sng">
                <a:solidFill>
                  <a:srgbClr val="c00000"/>
                </a:solidFill>
                <a:uFillTx/>
                <a:latin typeface="Cambria"/>
              </a:rPr>
              <a:t>Спасибо за урок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4897440" y="2851200"/>
            <a:ext cx="4857840" cy="3357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9540720" y="5637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795240" y="3203640"/>
            <a:ext cx="8568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8A66A-C3CF-4C6B-BB03-3274BB6DC76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55B4F-19CF-4228-BE1F-6790CB8FC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2"/>
          <a:srcRect l="0" t="0" r="0" b="69481"/>
          <a:stretch/>
        </p:blipFill>
        <p:spPr>
          <a:xfrm>
            <a:off x="276120" y="1398600"/>
            <a:ext cx="9802800" cy="174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rcRect l="0" t="0" r="31168" b="69481"/>
          <a:stretch/>
        </p:blipFill>
        <p:spPr>
          <a:xfrm>
            <a:off x="434880" y="3144960"/>
            <a:ext cx="6748560" cy="174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rcRect l="0" t="0" r="31168" b="69481"/>
          <a:stretch/>
        </p:blipFill>
        <p:spPr>
          <a:xfrm>
            <a:off x="595440" y="5049720"/>
            <a:ext cx="6748200" cy="1746360"/>
          </a:xfrm>
          <a:prstGeom prst="rect">
            <a:avLst/>
          </a:prstGeom>
          <a:ln w="0">
            <a:noFill/>
          </a:ln>
        </p:spPr>
      </p:pic>
      <p:sp>
        <p:nvSpPr>
          <p:cNvPr id="196" name="Oval 7"/>
          <p:cNvSpPr/>
          <p:nvPr/>
        </p:nvSpPr>
        <p:spPr>
          <a:xfrm>
            <a:off x="7340760" y="4017960"/>
            <a:ext cx="237960" cy="237960"/>
          </a:xfrm>
          <a:prstGeom prst="ellipse">
            <a:avLst/>
          </a:prstGeom>
          <a:solidFill>
            <a:srgbClr val="00000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626240" y="5889600"/>
            <a:ext cx="225360" cy="2253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866880" y="1574640"/>
            <a:ext cx="85676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300" spc="-1" strike="noStrike" u="sng">
                <a:solidFill>
                  <a:srgbClr val="000000"/>
                </a:solidFill>
                <a:uFillTx/>
                <a:latin typeface="Cambria"/>
              </a:rPr>
              <a:t>Т А И З Н Ы О Р У  Э</a:t>
            </a:r>
            <a:endParaRPr b="0" lang="en-US" sz="7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F3419-5283-4A9D-AC9A-8587E1F5E7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B8EB5-CDD6-4C7E-AB3A-BA4D4413A2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87760" y="2913120"/>
            <a:ext cx="50760" cy="32288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022480" y="3463920"/>
            <a:ext cx="739800" cy="714240"/>
          </a:xfrm>
          <a:prstGeom prst="rect">
            <a:avLst/>
          </a:prstGeom>
          <a:solidFill>
            <a:srgbClr val="c0504d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786720" y="2984400"/>
            <a:ext cx="739440" cy="714600"/>
          </a:xfrm>
          <a:prstGeom prst="rect">
            <a:avLst/>
          </a:prstGeom>
          <a:solidFill>
            <a:srgbClr val="0070c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786720" y="4811760"/>
            <a:ext cx="793440" cy="714240"/>
          </a:xfrm>
          <a:prstGeom prst="rect">
            <a:avLst/>
          </a:prstGeom>
          <a:solidFill>
            <a:srgbClr val="00b05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96CFA-4387-4037-9DB5-8D762D3DB3E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54E02-5BC2-4664-B85F-D1ACD2016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2598840" y="393696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960800" y="3936960"/>
            <a:ext cx="167976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98840" y="2441520"/>
            <a:ext cx="1523520" cy="13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040360" y="2441520"/>
            <a:ext cx="3701880" cy="13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я 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4487760" y="2678040"/>
            <a:ext cx="4730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780000" y="1495440"/>
            <a:ext cx="2626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ПОЗОВ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56D54-5DB5-4D09-9360-CDA178FD57C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8354F-1C88-4414-A7D0-F6372B12F5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2519280" y="3386160"/>
            <a:ext cx="167976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5040360" y="3386160"/>
            <a:ext cx="16794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3071520" y="1731960"/>
            <a:ext cx="11120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275440" y="1654200"/>
            <a:ext cx="9381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4173480" y="2282760"/>
            <a:ext cx="78732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782CE-5889-4B55-B0AF-6370EB47268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A2546-CEA1-4365-80E5-1B5D669E89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654200" y="26780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16520" y="2678040"/>
            <a:ext cx="168084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6535800" y="25988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330800" y="1495440"/>
            <a:ext cx="1574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851520" y="1495440"/>
            <a:ext cx="18907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2205000" y="1654200"/>
            <a:ext cx="1026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5905440" y="1258920"/>
            <a:ext cx="5616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3306600" y="1338120"/>
            <a:ext cx="770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_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866520" y="5591160"/>
            <a:ext cx="78220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вывод сделаем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колько частей  распалось каждое слов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8BD96-E640-491A-9BE5-7FE098BB45D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DD04C-596C-4DC9-B6C4-F163BF3E0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654200" y="26780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016520" y="2678040"/>
            <a:ext cx="168084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6535800" y="25988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330800" y="1495440"/>
            <a:ext cx="1574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6851520" y="1495440"/>
            <a:ext cx="18907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205000" y="1654200"/>
            <a:ext cx="1026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5905440" y="1258920"/>
            <a:ext cx="5616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306600" y="1338120"/>
            <a:ext cx="770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_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0" y="0"/>
            <a:ext cx="10080720" cy="28728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54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9802800" y="0"/>
            <a:ext cx="276120" cy="755964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108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7272360"/>
            <a:ext cx="10080720" cy="28728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54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276120" cy="755964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108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 rot="5400000">
            <a:off x="39600" y="-29880"/>
            <a:ext cx="506520" cy="57312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 rot="16200000">
            <a:off x="9529920" y="7013520"/>
            <a:ext cx="504720" cy="58752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0" y="7054920"/>
            <a:ext cx="573120" cy="50472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 rot="10980000">
            <a:off x="9559800" y="2520"/>
            <a:ext cx="525600" cy="59508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0" y="6048360"/>
            <a:ext cx="949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223040" y="7007400"/>
            <a:ext cx="23511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858B4-3991-4ED0-A327-C82BDCF23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1" descr=""/>
          <p:cNvPicPr/>
          <p:nvPr/>
        </p:nvPicPr>
        <p:blipFill>
          <a:blip r:embed="rId2"/>
          <a:stretch/>
        </p:blipFill>
        <p:spPr>
          <a:xfrm>
            <a:off x="214200" y="254160"/>
            <a:ext cx="9528120" cy="6905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"/>
          <p:cNvPicPr/>
          <p:nvPr/>
        </p:nvPicPr>
        <p:blipFill>
          <a:blip r:embed="rId3"/>
          <a:stretch/>
        </p:blipFill>
        <p:spPr>
          <a:xfrm>
            <a:off x="1935000" y="4400640"/>
            <a:ext cx="5658120" cy="1774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"/>
          <p:cNvPicPr/>
          <p:nvPr/>
        </p:nvPicPr>
        <p:blipFill>
          <a:blip r:embed="rId4"/>
          <a:stretch/>
        </p:blipFill>
        <p:spPr>
          <a:xfrm>
            <a:off x="1654200" y="3170160"/>
            <a:ext cx="3124080" cy="309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"/>
          <p:cNvPicPr/>
          <p:nvPr/>
        </p:nvPicPr>
        <p:blipFill>
          <a:blip r:embed="rId5"/>
          <a:stretch/>
        </p:blipFill>
        <p:spPr>
          <a:xfrm>
            <a:off x="1968480" y="2136600"/>
            <a:ext cx="5583240" cy="3838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"/>
          <p:cNvPicPr/>
          <p:nvPr/>
        </p:nvPicPr>
        <p:blipFill>
          <a:blip r:embed="rId6"/>
          <a:stretch/>
        </p:blipFill>
        <p:spPr>
          <a:xfrm>
            <a:off x="3633840" y="2136600"/>
            <a:ext cx="2566800" cy="4125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"/>
          <p:cNvPicPr/>
          <p:nvPr/>
        </p:nvPicPr>
        <p:blipFill>
          <a:blip r:embed="rId7"/>
          <a:stretch/>
        </p:blipFill>
        <p:spPr>
          <a:xfrm>
            <a:off x="5141880" y="2136600"/>
            <a:ext cx="2648160" cy="3838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"/>
          <p:cNvPicPr/>
          <p:nvPr/>
        </p:nvPicPr>
        <p:blipFill>
          <a:blip r:embed="rId8"/>
          <a:stretch/>
        </p:blipFill>
        <p:spPr>
          <a:xfrm>
            <a:off x="5894280" y="2103480"/>
            <a:ext cx="1619280" cy="4071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8" descr=""/>
          <p:cNvPicPr/>
          <p:nvPr/>
        </p:nvPicPr>
        <p:blipFill>
          <a:blip r:embed="rId9"/>
          <a:stretch/>
        </p:blipFill>
        <p:spPr>
          <a:xfrm>
            <a:off x="4529160" y="2001960"/>
            <a:ext cx="4349880" cy="426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9" descr=""/>
          <p:cNvPicPr/>
          <p:nvPr/>
        </p:nvPicPr>
        <p:blipFill>
          <a:blip r:embed="rId10"/>
          <a:stretch/>
        </p:blipFill>
        <p:spPr>
          <a:xfrm>
            <a:off x="5018040" y="3608280"/>
            <a:ext cx="3603600" cy="2695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0" descr=""/>
          <p:cNvPicPr/>
          <p:nvPr/>
        </p:nvPicPr>
        <p:blipFill>
          <a:blip r:embed="rId11"/>
          <a:stretch/>
        </p:blipFill>
        <p:spPr>
          <a:xfrm>
            <a:off x="7526160" y="4543560"/>
            <a:ext cx="1224000" cy="15922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1"/>
          <p:cNvSpPr/>
          <p:nvPr/>
        </p:nvSpPr>
        <p:spPr>
          <a:xfrm>
            <a:off x="434880" y="6249960"/>
            <a:ext cx="851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434880" y="4024440"/>
            <a:ext cx="52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434880" y="309600"/>
            <a:ext cx="74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з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2183040" y="353880"/>
            <a:ext cx="6152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4225680" y="368280"/>
            <a:ext cx="7308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арабан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6978600" y="379440"/>
            <a:ext cx="680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рактор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8849880" y="406440"/>
            <a:ext cx="461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ро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8"/>
          <p:cNvSpPr/>
          <p:nvPr/>
        </p:nvSpPr>
        <p:spPr>
          <a:xfrm>
            <a:off x="7797960" y="2351160"/>
            <a:ext cx="397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7829280" y="4284720"/>
            <a:ext cx="6166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е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30"/>
          <p:cNvSpPr/>
          <p:nvPr/>
        </p:nvSpPr>
        <p:spPr>
          <a:xfrm>
            <a:off x="8612280" y="6451560"/>
            <a:ext cx="753840" cy="601560"/>
          </a:xfrm>
          <a:custGeom>
            <a:avLst/>
            <a:gdLst>
              <a:gd name="textAreaLeft" fmla="*/ 38880 w 753840"/>
              <a:gd name="textAreaRight" fmla="*/ 714960 w 753840"/>
              <a:gd name="textAreaTop" fmla="*/ 38880 h 601560"/>
              <a:gd name="textAreaBottom" fmla="*/ 562680 h 601560"/>
            </a:gdLst>
            <a:ahLst/>
            <a:rect l="textAreaLeft" t="textAreaTop" r="textAreaRight" b="textAreaBottom"/>
            <a:pathLst>
              <a:path w="27065" h="21600">
                <a:moveTo>
                  <a:pt x="0" y="0"/>
                </a:moveTo>
                <a:lnTo>
                  <a:pt x="27065" y="0"/>
                </a:lnTo>
                <a:lnTo>
                  <a:pt x="27065" y="21600"/>
                </a:lnTo>
                <a:lnTo>
                  <a:pt x="0" y="21600"/>
                </a:lnTo>
                <a:close/>
              </a:path>
              <a:path fill="lightenLess" w="27065" h="21600">
                <a:moveTo>
                  <a:pt x="0" y="0"/>
                </a:moveTo>
                <a:lnTo>
                  <a:pt x="27065" y="0"/>
                </a:lnTo>
                <a:lnTo>
                  <a:pt x="25665" y="1400"/>
                </a:lnTo>
                <a:lnTo>
                  <a:pt x="1400" y="1400"/>
                </a:lnTo>
                <a:close/>
              </a:path>
              <a:path fill="darken" w="27065" h="21600">
                <a:moveTo>
                  <a:pt x="27065" y="0"/>
                </a:moveTo>
                <a:lnTo>
                  <a:pt x="27065" y="21600"/>
                </a:lnTo>
                <a:lnTo>
                  <a:pt x="25665" y="20200"/>
                </a:lnTo>
                <a:lnTo>
                  <a:pt x="25665" y="1400"/>
                </a:lnTo>
                <a:close/>
              </a:path>
              <a:path fill="darkenLess" w="27065" h="21600">
                <a:moveTo>
                  <a:pt x="27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65" y="20200"/>
                </a:lnTo>
                <a:close/>
              </a:path>
              <a:path fill="lighten" w="27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65" h="21600">
                <a:moveTo>
                  <a:pt x="13532" y="3837"/>
                </a:moveTo>
                <a:lnTo>
                  <a:pt x="16109" y="6448"/>
                </a:lnTo>
                <a:lnTo>
                  <a:pt x="16109" y="4707"/>
                </a:lnTo>
                <a:lnTo>
                  <a:pt x="17884" y="4707"/>
                </a:lnTo>
                <a:lnTo>
                  <a:pt x="17884" y="8224"/>
                </a:lnTo>
                <a:lnTo>
                  <a:pt x="20495" y="10800"/>
                </a:lnTo>
                <a:lnTo>
                  <a:pt x="18842" y="10800"/>
                </a:lnTo>
                <a:lnTo>
                  <a:pt x="18842" y="17989"/>
                </a:lnTo>
                <a:lnTo>
                  <a:pt x="8223" y="17989"/>
                </a:lnTo>
                <a:lnTo>
                  <a:pt x="8223" y="10800"/>
                </a:lnTo>
                <a:lnTo>
                  <a:pt x="6569" y="10800"/>
                </a:lnTo>
                <a:close/>
              </a:path>
              <a:path fill="darkenLess" w="27065" h="21600">
                <a:moveTo>
                  <a:pt x="16109" y="6448"/>
                </a:moveTo>
                <a:lnTo>
                  <a:pt x="16109" y="4707"/>
                </a:lnTo>
                <a:lnTo>
                  <a:pt x="17884" y="4707"/>
                </a:lnTo>
                <a:lnTo>
                  <a:pt x="17884" y="8224"/>
                </a:lnTo>
                <a:close/>
              </a:path>
              <a:path fill="darkenLess" w="27065" h="21600">
                <a:moveTo>
                  <a:pt x="12610" y="14299"/>
                </a:moveTo>
                <a:lnTo>
                  <a:pt x="14455" y="14299"/>
                </a:lnTo>
                <a:lnTo>
                  <a:pt x="14455" y="17989"/>
                </a:lnTo>
                <a:lnTo>
                  <a:pt x="18842" y="17989"/>
                </a:lnTo>
                <a:lnTo>
                  <a:pt x="18842" y="10800"/>
                </a:lnTo>
                <a:lnTo>
                  <a:pt x="8223" y="10800"/>
                </a:lnTo>
                <a:lnTo>
                  <a:pt x="8223" y="17989"/>
                </a:lnTo>
                <a:lnTo>
                  <a:pt x="12610" y="17989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7578720" y="6583320"/>
            <a:ext cx="87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 3 с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43:45Z</dcterms:created>
  <dc:creator>1</dc:creator>
  <dc:description/>
  <dc:language>en-US</dc:language>
  <cp:lastModifiedBy>Лидия</cp:lastModifiedBy>
  <dcterms:modified xsi:type="dcterms:W3CDTF">2020-03-31T09:09:56Z</dcterms:modified>
  <cp:revision>31</cp:revision>
  <dc:subject/>
  <dc:title>весна</dc:title>
</cp:coreProperties>
</file>